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7DB-3447-4643-9E7D-E6429F02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DCA-FFE9-4BF8-A16C-790D7234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742-65EA-4D45-B6ED-2572CA4B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28B-D314-4957-AACE-DA68A330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B60-C972-4CF9-B377-34D4779D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693-69B1-4BC9-9A36-C7377A59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FFA-1164-4B0F-B166-F7C72C5B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313-5EEB-4BDE-83EE-FC2EA156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800-2637-4D12-8F48-8216456C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BF9-7D98-40B7-8CFD-C6E547ED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2D4-EE52-4F2A-BD04-12648B01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C9D2-0727-42EF-A457-D4FFC1CE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9781-6D4A-4D0E-92EF-2385082DE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SPESIFIKASI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AT DETEKSI RISIKO IBU HAM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SIFIKASI ALAT RAPID TEST (HB SAHLI) PELAYANAN ANTENATAL YANG DIBUTUHK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at Gluko-Protein Ur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parameter meliputi Ph, glucose, dan prote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ali pemeriksaa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Kehami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ntuk carik cel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ip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olongan Dara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Reagen Anti A, B, AB, dan Rh 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 golongan Darah sebanyak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Hb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ode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Sahl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ge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erupa HCl 0,1N sebanyak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utoclick devi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Stainless Stee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arum lancet (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4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biji) (disesuaikan dengan sasaran ibu hamil di desa dalam 1 tahun dimana masing-masing ibu hamil diperiksa 2 kali selama kehamilan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.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uku Petunjuk Teknis Penggunaan Alat Rapid Tes Pelayanan Antenatal bagi Bid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2:20:18Z</dcterms:created>
  <dc:creator>User</dc:creator>
  <dc:description/>
  <dc:language>en-US</dc:language>
  <cp:lastModifiedBy>LENOVO</cp:lastModifiedBy>
  <dcterms:modified xsi:type="dcterms:W3CDTF">2015-02-16T03:20:01Z</dcterms:modified>
  <cp:revision>28</cp:revision>
  <dc:subject/>
  <dc:title>DAFTAR KEBUTUHAN RAPID TES PELAYANAN ANTENATAL TAHUN 2015 (VERSI 65 M)</dc:title>
</cp:coreProperties>
</file>